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57.jpeg" ContentType="image/jpeg"/>
  <Override PartName="/ppt/media/image56.jpeg" ContentType="image/jpeg"/>
  <Override PartName="/ppt/media/image54.jpeg" ContentType="image/jpeg"/>
  <Override PartName="/ppt/media/image53.jpeg" ContentType="image/jpeg"/>
  <Override PartName="/ppt/media/image23.png" ContentType="image/png"/>
  <Override PartName="/ppt/media/image49.jpeg" ContentType="image/jpeg"/>
  <Override PartName="/ppt/media/image8.gif" ContentType="image/gif"/>
  <Override PartName="/ppt/media/image48.jpeg" ContentType="image/jpeg"/>
  <Override PartName="/ppt/media/image75.gif" ContentType="image/gif"/>
  <Override PartName="/ppt/media/image46.jpeg" ContentType="image/jpeg"/>
  <Override PartName="/ppt/media/image45.jpeg" ContentType="image/jpeg"/>
  <Override PartName="/ppt/media/image43.gif" ContentType="image/gif"/>
  <Override PartName="/ppt/media/image41.jpeg" ContentType="image/jpeg"/>
  <Override PartName="/ppt/media/image39.jpeg" ContentType="image/jpeg"/>
  <Override PartName="/ppt/media/image38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36.jpeg" ContentType="image/jpeg"/>
  <Override PartName="/ppt/media/image4.wmf" ContentType="image/x-wmf"/>
  <Override PartName="/ppt/media/image1.jpeg" ContentType="image/jpeg"/>
  <Override PartName="/ppt/media/image35.jpeg" ContentType="image/jpeg"/>
  <Override PartName="/ppt/media/image22.jpeg" ContentType="image/jpeg"/>
  <Override PartName="/ppt/media/image42.wmf" ContentType="image/x-wmf"/>
  <Override PartName="/ppt/media/image21.jpeg" ContentType="image/jpeg"/>
  <Override PartName="/ppt/media/image25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66.gif" ContentType="image/gif"/>
  <Override PartName="/ppt/media/image67.jpeg" ContentType="image/jpeg"/>
  <Override PartName="/ppt/media/image47.jpeg" ContentType="image/jpeg"/>
  <Override PartName="/ppt/media/image65.gif" ContentType="image/gif"/>
  <Override PartName="/ppt/media/image64.jpeg" ContentType="image/jpeg"/>
  <Override PartName="/ppt/media/image63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26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4.png" ContentType="image/png"/>
  <Override PartName="/ppt/media/image72.jpeg" ContentType="image/jpeg"/>
  <Override PartName="/ppt/media/image11.gif" ContentType="image/gif"/>
  <Override PartName="/ppt/media/image19.jpeg" ContentType="image/jpeg"/>
  <Override PartName="/ppt/media/image20.jpeg" ContentType="image/jpeg"/>
  <Override PartName="/ppt/media/image7.wmf" ContentType="image/x-wmf"/>
  <Override PartName="/ppt/media/image6.wmf" ContentType="image/x-wmf"/>
  <Override PartName="/ppt/media/image30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55.jpeg" ContentType="image/jpeg"/>
  <Override PartName="/ppt/media/image18.gif" ContentType="image/gif"/>
  <Override PartName="/ppt/media/image58.jpeg" ContentType="image/jpeg"/>
  <Override PartName="/ppt/media/image13.jpeg" ContentType="image/jpeg"/>
  <Override PartName="/ppt/media/image4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4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7BC-E074-4FA4-A71B-2BB3DCEF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859-EBD8-4BFC-87A2-F3D86AD3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E924-43DB-41B8-B284-EBE25ED3E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3468-37F2-4A0D-80EE-1ECA96270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4206-175E-4FF8-8856-CFAC3213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5F0F-A76C-4D2D-AA0D-2A4362D7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1BB0-4791-4B43-8C29-B6E743B8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F935-6F01-4459-8196-DA071E04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8137-A6D3-4F93-B61C-977A3F3A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4598-B3CF-43A1-AF36-5FED8372C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87C4-75F3-4F0E-8EF3-A9C5AC29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9DD-910D-4F51-8731-504F9AFB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4FAA-759F-4A95-BDE2-1DBD5DEE7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image" Target="../media/image44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image" Target="../media/image6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1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1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755640" y="1484280"/>
            <a:ext cx="7632720" cy="41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бры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Повышение квалификаци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арийский институт 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ема: « Актуальные вопросы подготовки юных спортсменов в ДЮСШ, общеобразовательных учреждениях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2 час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Удостоверение № 244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6 – 28 октября 2006 г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588000" y="3956040"/>
            <a:ext cx="2160720" cy="204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3467160" cy="4969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003640" y="907920"/>
            <a:ext cx="338472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63640" y="3933720"/>
            <a:ext cx="1297080" cy="120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734544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аучно-методическ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Тема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«Туристический слёт - одно из направлений спортивно-оздоровительной работы в шк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Цел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пропаганда здорового образа жиз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Привитие учащимся интереса к занятиям физической культурой и спорт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Организация совместного досуга учителей, учащихся и родите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Подготовка детей к участию в соревнованиях различного уровн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езультаты внедр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крепление здоровь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 Повышение показателей физического развития учащих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. Регулярное выступление учащихся в соревновани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518240" y="333360"/>
            <a:ext cx="1625760" cy="117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076720" y="1700280"/>
            <a:ext cx="3403800" cy="47530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433680" cy="47512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27280" y="260280"/>
            <a:ext cx="36734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ff"/>
                </a:solidFill>
                <a:latin typeface="Times New Roman"/>
              </a:rPr>
              <a:t>Реферат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09308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529080" cy="2313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11280" y="3933720"/>
            <a:ext cx="3527280" cy="23194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5003640" y="1125360"/>
            <a:ext cx="3527640" cy="2287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076720" y="3933720"/>
            <a:ext cx="3529080" cy="2301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455840" y="136440"/>
            <a:ext cx="642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Этапы соревновани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03280" y="3449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Бабоч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76720" y="3429000"/>
            <a:ext cx="35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Параллельные верёв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58920" y="62373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Мышеловка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43480" y="6237360"/>
            <a:ext cx="29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«Установка палат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1052640"/>
            <a:ext cx="7921440" cy="47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Распростран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дагогическог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пы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804000" y="4724280"/>
            <a:ext cx="2000160" cy="160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Выступл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95280" y="1773000"/>
            <a:ext cx="4824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На педагогическом совете школы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Конфликты-реалии сегодняшне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.11.2006 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В МИО на КПК для учителей физкультуры и тренеров РМЭ по тем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«Проведение туристических слётов в условиях общеобразовательной школы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330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12.2006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293364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Урочная деятельност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1280" y="1981080"/>
            <a:ext cx="417672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общающий открытый у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овершенствование техники ведения, передачи и приёма мяча в баскетболе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 кла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О, РМЭ, 26.10.2006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59892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3440" cy="2162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3311640" cy="2183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3440" cy="2185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456000" cy="22194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33303"/>
                </a:solidFill>
                <a:latin typeface="Times New Roman"/>
              </a:rPr>
              <a:t>Моменты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3673440" cy="23986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859280" y="692280"/>
            <a:ext cx="3672000" cy="238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39640" y="3716280"/>
            <a:ext cx="3672000" cy="24321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932360" y="3716280"/>
            <a:ext cx="3600360" cy="239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4000" y="4724280"/>
            <a:ext cx="8640720" cy="14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МОУ «Средняя общеобразовательная школа № 16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771640" y="609300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г. Йошкар-Ола, 2006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8360" y="620640"/>
            <a:ext cx="820728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снок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Александр Сергеевич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47640" y="4292640"/>
            <a:ext cx="6048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Физическая культур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неурочная деятельнос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81080"/>
            <a:ext cx="43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Внеклассное 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Выпускник-2007»- спортивный конкурс с применением МП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МО учителей физкультур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.12.06 г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3527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311640" cy="2247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341360"/>
            <a:ext cx="3313440" cy="2208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26920" y="4005360"/>
            <a:ext cx="3311640" cy="2332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5076720" y="4005360"/>
            <a:ext cx="3313080" cy="2306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Моменты соревновани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6920" y="259920"/>
            <a:ext cx="640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Результативность </a:t>
            </a:r>
            <a:br>
              <a:rPr sz="5400"/>
            </a:b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деятельност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2924280"/>
            <a:ext cx="7632720" cy="3483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16000" y="2205000"/>
            <a:ext cx="72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Средний балл экзамена по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7655040" y="260280"/>
            <a:ext cx="1160280" cy="172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Средний балл обучен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662360" cy="4969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940360" y="1844640"/>
            <a:ext cx="28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3-06 г.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3303"/>
                </a:solidFill>
                <a:latin typeface="Times New Roman"/>
              </a:rPr>
              <a:t>4,57 бал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227640" y="3645000"/>
            <a:ext cx="2232000" cy="19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16000" y="765000"/>
            <a:ext cx="6769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аст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лимпиада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оревнованиях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948360" y="765000"/>
            <a:ext cx="1708200" cy="163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Олимп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33303"/>
                </a:solidFill>
                <a:latin typeface="Times New Roman"/>
              </a:rPr>
              <a:t>Головина Юл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ородская олимпиада школьников по  физической культур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Гимнастика»-4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инация -«Теоретическое тестирование»-6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27204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8" dur="1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Футбо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Лаптев Дмитр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енств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зы клуб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Кожаный мяч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2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23676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Спартакиад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4102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Рыбакова Ан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3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родской легкоатлетический кро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3303"/>
                </a:solidFill>
                <a:latin typeface="Times New Roman"/>
              </a:rPr>
              <a:t>2003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435640" y="1844640"/>
            <a:ext cx="3181320" cy="432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187280" y="3789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2997360"/>
            <a:ext cx="2237040" cy="3240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Дзюдо – Иванов Дени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195640" cy="3168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492360" y="306864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9280" y="1484280"/>
            <a:ext cx="8821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Кубке РМЭ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 место на призы Администрации г. Волжска, 46 кг, 2004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 место в зачёт 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летней спартакиады, 50 кг, 2005 год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Дзюдо – Пашковский Дим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4033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1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СДЮШОР по дзюд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5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355640" y="1413000"/>
            <a:ext cx="4103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 мест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в первенств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. Йошкар-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33303"/>
                </a:solidFill>
                <a:latin typeface="Times New Roman"/>
              </a:rPr>
              <a:t>2004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306864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37636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7561440" cy="478980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Начало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педагогической деятель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00720" y="2349360"/>
            <a:ext cx="214200" cy="358920"/>
          </a:xfrm>
          <a:prstGeom prst="upArrow">
            <a:avLst>
              <a:gd name="adj1" fmla="val 50000"/>
              <a:gd name="adj2" fmla="val 4189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ff"/>
                </a:solidFill>
                <a:latin typeface="Times New Roman"/>
              </a:rPr>
              <a:t>Туризм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1341360"/>
            <a:ext cx="8821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1 место в первенстве ФСТ РМЭ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 3 место в первенстве г. Йошкар-Олы, 2004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Чешуина Юлия,1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e3330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Иванова Екатерина, 2 место в Кубке ДЮЦ «Азимут», 2005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1828800" cy="2662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2606760" y="3141720"/>
            <a:ext cx="1820880" cy="26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1871640" cy="26636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7020000" y="3141720"/>
            <a:ext cx="1787400" cy="266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076720" y="3860640"/>
            <a:ext cx="3384720" cy="2327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411280" y="620640"/>
            <a:ext cx="4321440" cy="2876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338472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11280" y="4149720"/>
            <a:ext cx="3600360" cy="2303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859280" y="1268280"/>
            <a:ext cx="3673440" cy="23860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672000" cy="23623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611280" y="1341360"/>
            <a:ext cx="3598920" cy="23511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2803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Всероссийский кросс наций - 200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84360" y="765000"/>
            <a:ext cx="7920000" cy="410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Творческо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66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ред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66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95280" y="4437000"/>
            <a:ext cx="1935000" cy="1935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804000" y="443700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Участие в художественной самодеятель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3372120" cy="2079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992840" y="1981080"/>
            <a:ext cx="3324240" cy="21114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26920" y="4365720"/>
            <a:ext cx="3313440" cy="21254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4"/>
          <a:stretch/>
        </p:blipFill>
        <p:spPr>
          <a:xfrm>
            <a:off x="5076720" y="4365720"/>
            <a:ext cx="3240360" cy="211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7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Работа в социальном приют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349800" cy="22320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193920" cy="22132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5640" y="4114800"/>
            <a:ext cx="3384720" cy="21938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103720" y="4114800"/>
            <a:ext cx="3284640" cy="21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95280" y="90792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пасиб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36000" y="2349360"/>
            <a:ext cx="137160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8" dur="indefinite" restart="never" nodeType="tmRoot">
          <p:childTnLst>
            <p:seq>
              <p:cTn id="1149" dur="indefinite" nodeType="mainSeq">
                <p:childTnLst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Чесноков Александр Серге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432108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Образование высшее - МГПИ им. Н.К. Крупской, 1981 год Факультет физической культур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Специальность «Учитель физической культуры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сшая категор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– 24 г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29112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6312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ее образо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6769440" cy="4745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2087640" cy="142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Высшая категор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71640" y="1844640"/>
            <a:ext cx="3127320" cy="4465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240360" cy="28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424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Программы и учебные пособ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1342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плексная программа Министерства образования Российской Федерации «Физическое воспитание учащихся 1-11 классов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Москва, «Просвещение», 1996, 2006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«Программа и уроки по физическому воспитанию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Йошкар-Ола, МИО, 1997 го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54944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6191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Награжден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чётная грамота Управления образования Администрации г. Йошкар-Олы за многолетний добросовестный труд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330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плом  Комитета по физической культуре и спорту Администраци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г. Йошкар-Олы за большой вклад в развитие физической культуры, 2005 го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4360" y="404640"/>
            <a:ext cx="1387440" cy="14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539880" cy="49690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357516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7-01-14T07:30:08Z</dcterms:modified>
  <cp:revision>74</cp:revision>
  <dc:subject/>
  <dc:title>Федерация интернет Образования</dc:title>
</cp:coreProperties>
</file>